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66BA9-472B-4408-9DC7-CD7EA993BB6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AAC85-B537-454B-99CC-9ADE1C538EF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049A1-6D34-40FE-B56C-D446344C2C7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5958F-8B10-4DD0-9FEF-6CE8BE76C63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83AC0-C239-48AA-AFE2-E6878122F0A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D017A-1BB9-403F-B21D-AF63FD3B3C2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5355E-0CC8-4897-A1F5-4B89D4AD742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670B6-BB44-4210-BC99-B0569D931AD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E26BB-7351-490B-93EA-73FAA5ED10F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AA866-FEEC-4CCC-8C71-D4F37BE802F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A8B17-E0CF-4552-BB29-7C0944F4493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C252D-0432-4E18-8F1C-69518D1CC9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9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118B0-37FE-486A-887D-403B37DF88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A23EB-AE36-4EBF-BC6D-C5E9AD143A4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9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7792-937A-4143-9A6D-1475F9F0BFA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BB494-43E6-4D72-A56C-BCDDFC10928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CDCFE-7566-4F43-A2D9-05BBE010BA6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4530E-7DD2-4FCD-AAAD-576EAC01BAA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F04B-156E-4EBF-8B3D-D9AC66CC039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73CF7-E51B-4341-9D17-C2CC82E98D1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E155-A46D-4BBB-8D6E-979512C2767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DE2DB6-CB99-435E-82B9-6F145C4654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633D0C-92E2-487B-A043-0A312794DC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5757AD-E8DE-4377-B6DB-4323B3215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3210B-AA5E-4F78-B409-790C9327DA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75A4E-957A-4EF0-8394-F87CEF89E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0A09C-F515-453B-B616-291B2FA686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22FA2F-25F0-4734-A78D-369D45F2C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300CD-26CE-4B66-BC3D-0490F3C7E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D9993-35C0-4532-8A6D-D818A0EF4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F6A61-2AF4-4058-A6A6-9542781FE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F60652-8C4C-4609-BBDB-CB62DD5CC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25DC0E-6920-4572-AC6E-29626CE66C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F4336-CDF9-4876-B62B-E5AAEAF0C79B}"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74"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76"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80"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5" name="Object 4"/>
          <p:cNvGraphicFramePr/>
          <p:nvPr/>
        </p:nvGraphicFramePr>
        <p:xfrm>
          <a:off x="1981080" y="533520"/>
          <a:ext cx="5486400" cy="5478480"/>
        </p:xfrm>
        <a:graphic>
          <a:graphicData uri="http://schemas.openxmlformats.org/presentationml/2006/ole">
            <p:oleObj r:id="rId1" spid="">
              <p:embed/>
              <p:pic>
                <p:nvPicPr>
                  <p:cNvPr id="86"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70"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5:24:34Z</dcterms:modified>
  <cp:revision>14</cp:revision>
  <dc:subject/>
  <dc:title>Programmes et services  d’emploi  de l’Ontario</dc:title>
</cp:coreProperties>
</file>